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CE2AD-9D42-4632-B718-9E1A996FD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7DDBD-4D97-430F-818C-8952C8E68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E0C40-4611-4A3F-B563-4BCD084CA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0EAD6-0C65-46EC-A733-D075B6AA4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71866-C868-4EC5-BD0C-2198DE92D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B82E5-26B4-4B7D-8CF2-E3DCED655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8E15A-B0F6-47A1-B7E3-6891AAC6D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4193A-988C-4235-B7CC-271C2E228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5D109-4044-4F0D-8D1F-FE3AE6AB2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7EE63-75B1-44AF-BD04-32ABF155C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2FB78-0B3B-4136-855E-CFD9A2A7E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62CCF-52A9-44E7-A3D9-73E5ED67C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8F8BA-6ECC-4379-81EA-852AC3FEE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CD759-F803-427B-85DA-DE92D906C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4EDFA-2D6D-4365-A5A1-B1556DCC8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D64FE-F20B-499E-AF09-78496B097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2D729-B6ED-4C8D-9035-CB7376338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07163-869B-4C70-9444-B25C22B15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6AC59-722D-4925-9BE9-0F170760C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79791-947E-4DC3-8274-A580AF528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5DD78-67B2-4D8D-8D85-98766FFF3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D8BE7-9EEB-4A83-916F-3B8C6BE8A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92360-B348-4E43-8131-A7D74E452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D2172-2141-4D0C-BE0F-E405FF91D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1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F6251-BBBF-4B00-9DB5-E3027C194C5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E1648-4CB7-4B3C-80BD-628A81AAD86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7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장 행동관리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371600" y="3645000"/>
            <a:ext cx="64008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고전행동주의와 신행동주의 차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-R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과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-R-S (ABC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수정의 관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거 또는 증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성취동기 향상 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보상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칭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흥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동기부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효능감과 귀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교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행동수정 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바람직한 행동의 증가 전략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적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적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토큰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할머니 법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remark Principle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계약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바람직하지 못한 행동의 감소 전략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소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연대책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학급관리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실의 물리적 배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의 조 편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좌석배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실생활 규칙 제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질문</a:t>
            </a: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?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979640" y="1844640"/>
            <a:ext cx="475308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0T03:46:38Z</dcterms:created>
  <dc:creator>.</dc:creator>
  <dc:description/>
  <dc:language>en-US</dc:language>
  <cp:lastModifiedBy>f</cp:lastModifiedBy>
  <dcterms:modified xsi:type="dcterms:W3CDTF">2007-05-02T01:29:10Z</dcterms:modified>
  <cp:revision>9</cp:revision>
  <dc:subject/>
  <dc:title>제 7장 체육교육과정</dc:title>
</cp:coreProperties>
</file>